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868-352D-490E-AE88-7F7DE3E2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21A-D20F-4F3E-BC25-1FBDF50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680-440C-42EE-9078-F86ED87D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881-5C37-4954-9B08-43BFFF5C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DA8-5902-46B7-80B6-48ADCBD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20D-EBE8-459E-AC51-562EC898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AF9-79AA-483E-BF0E-04A9BF39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7A1-A874-4448-83FA-2036ED04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535-4A62-4E7B-B799-37280D82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CEC-DD68-416E-8BDB-8D12F4C4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4CE-5093-4510-A46E-370FA7B6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4A3-9303-4EE0-A67D-9144E2E2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A13-08C6-40F5-B504-1A35195BF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ad 20.5 books then I read 1.5 more books. my brother read 1.25 books less than what I read. How many books did my brother r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123720"/>
            <a:ext cx="64008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– 1.25 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304920"/>
            <a:ext cx="838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y'Quan Kearney's Decimal Word 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4495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5181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867280"/>
            <a:ext cx="228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8672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867280"/>
            <a:ext cx="228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56840" y="5791320"/>
            <a:ext cx="76212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867280"/>
            <a:ext cx="83808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294920" y="5791320"/>
            <a:ext cx="30492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867280"/>
            <a:ext cx="2286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523880" y="64004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64008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3:58:23Z</dcterms:created>
  <dc:creator>TPE-Tab01</dc:creator>
  <dc:description/>
  <dc:language>en-US</dc:language>
  <cp:lastModifiedBy>TPE-Tab01</cp:lastModifiedBy>
  <dcterms:modified xsi:type="dcterms:W3CDTF">2012-10-01T16:45:15Z</dcterms:modified>
  <cp:revision>3</cp:revision>
  <dc:subject/>
  <dc:title>Slide 1</dc:title>
</cp:coreProperties>
</file>